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EA94-B6DD-4460-A750-E8DEC4F85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5083-3DFE-44E8-BC46-40591896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3D74-73B7-4CD8-AD95-2347F7E86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98F2-587C-4132-8478-9A31F30AE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CFF8-4C00-4938-AC5A-248E0498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74F2-D900-4D35-8D5C-3937DEE0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2BAF-C6DD-4767-80EE-2A8993E9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7025-EAD0-4A95-9997-E4472697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D1FE-1E71-4720-80D8-C5C9544B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D68C-B402-4FB9-AFEF-E32BC3A9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DC6A-6B5D-4F70-B175-624A02A6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C205-CAAB-4DEB-9F65-B17316E7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9AC5-41B3-43A9-8482-00C44536B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images.google.es/imgres?imgurl=http://www.daymontsl.com/images/joyeria.gif&amp;imgrefurl=http://www.daymontsl.com/joyeria.htm&amp;h=233&amp;w=267&amp;sz=11&amp;tbnid=j_59orUZ8Um1DM:&amp;tbnh=94&amp;tbnw=108&amp;hl=es&amp;start=1&amp;prev=/images%3Fq%3Djoyeria%26svnum%3D10%26hl%3Des%26lr%3D%26sa%3DN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7416720" cy="4103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8360" y="4508640"/>
            <a:ext cx="82072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En la fruteria se vende p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átanos, manzanas, naranjas y u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A7DA-0471-4F58-8654-32D3CDFE53C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26920" y="4076640"/>
            <a:ext cx="777744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200" spc="-1" strike="noStrike">
                <a:solidFill>
                  <a:srgbClr val="000000"/>
                </a:solidFill>
                <a:latin typeface="Arial"/>
              </a:rPr>
              <a:t>En la libr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ía hay muchos libros, por ejemplo diccionarios, novelas y gúias turístic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6867720" cy="3745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5C50-5C5C-4EFC-92D2-28149E0F8B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7058160" cy="3456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68360" y="3933720"/>
            <a:ext cx="8424720" cy="28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 Corte Ing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és es l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yor cadena de grandes almacenes de España, con una amplia variedad de articulos de moda, hogar, alimentacion, deportes y electron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A858-D6FE-41A7-B5A0-3874FCDD22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79280" y="0"/>
            <a:ext cx="8964720" cy="71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 marisc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a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 pape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em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ñ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a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l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lsera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acel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cendedo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gh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s purro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ig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 hoga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use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guet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lavero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-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sitos de peluch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ddy b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den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9BF6-8663-4C91-8683-30601A6930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129440" cy="3745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39640" y="4149720"/>
            <a:ext cx="8604360" cy="24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200" spc="-1" strike="noStrike">
                <a:solidFill>
                  <a:srgbClr val="000000"/>
                </a:solidFill>
                <a:latin typeface="Arial"/>
              </a:rPr>
              <a:t>En la peluqu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ía, es evidente, ¿no? Se corta el pelo, pero también se habla mucho- de sus vacaciones, del amor, ¡de todo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353A-D91A-475A-A5B0-BC4CB5709C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34120" cy="4000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564000" y="907920"/>
            <a:ext cx="5333760" cy="3168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9640" y="4221000"/>
            <a:ext cx="7848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En la carnic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ía se vende cerdo, carne de vaca, hamburguesas y todos tipos de car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83C7-889E-4895-B17F-C082F3A8CB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0" y="189000"/>
            <a:ext cx="4181400" cy="3456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4572000" cy="3456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5280" y="3933720"/>
            <a:ext cx="8280360" cy="27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200" spc="-1" strike="noStrike">
                <a:solidFill>
                  <a:srgbClr val="000000"/>
                </a:solidFill>
                <a:latin typeface="Arial"/>
              </a:rPr>
              <a:t>En la panad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ía se vende todos tipos de pan. Normalmente también se encuentra bocadillos, patatas fritas y latas de refresc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0297-5C98-4090-A103-5CCBD2AE80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7343640" cy="4000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68360" y="4005360"/>
            <a:ext cx="8136000" cy="26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100" spc="-1" strike="noStrike">
                <a:solidFill>
                  <a:srgbClr val="000000"/>
                </a:solidFill>
                <a:latin typeface="Arial"/>
              </a:rPr>
              <a:t>Se encuentra muchas pescader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ías en España, especialmente cerca del mar. Los mariscos son muy frescos- ¡es muy importante para preparar una paella deliciosa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3B4F-90CC-4C8B-B658-118B52653A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6266160" cy="3573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9640" y="3789360"/>
            <a:ext cx="8209080" cy="20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300" spc="-1" strike="noStrike">
                <a:solidFill>
                  <a:srgbClr val="000000"/>
                </a:solidFill>
                <a:latin typeface="Arial"/>
              </a:rPr>
              <a:t>En una sociedad tradicionalmente rom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ántica, las floristas tienen un papel muy importante a desempeña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B3B1-324B-4FE0-82C7-1A82867D10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340000" y="404640"/>
            <a:ext cx="5761080" cy="3238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404640"/>
            <a:ext cx="1655640" cy="244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0920" y="3933720"/>
            <a:ext cx="8424720" cy="24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200" spc="-1" strike="noStrike">
                <a:solidFill>
                  <a:srgbClr val="000000"/>
                </a:solidFill>
                <a:latin typeface="Arial"/>
              </a:rPr>
              <a:t>Las joy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ías españolas venden una gama de productos hechos de oro y de plata, por ejemplo pendientes, collares y pulser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6521-C130-4874-8487-EA11802D9B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6096240" cy="3600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0920" y="4149720"/>
            <a:ext cx="8713800" cy="26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En el estanco se vende todos tipos de tabaco, incluso los purros y los cigarillos. Adem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ás hay sellos nacionales y internacionales, encendedores y fósfor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64BE-6625-4B34-8535-A2BFB49BA0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7274160" cy="3673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24000" y="4005360"/>
            <a:ext cx="8640720" cy="26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100" spc="-1" strike="noStrike">
                <a:solidFill>
                  <a:srgbClr val="000000"/>
                </a:solidFill>
                <a:latin typeface="Arial"/>
              </a:rPr>
              <a:t>Los supermercados, por ejemplo Supersol, venden todos tipos de producto para el hogar. Venden todos tipos de comida y bebida, incluso bebidas alcoh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ólicas, y productos para limpiar la cas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46BE-9039-4C04-8EFA-B77FBE9CAC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6048360" cy="3745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79280" y="4221000"/>
            <a:ext cx="849636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En la tienda de regalos hay juguetes, caramelos, llaveros y, claro,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¡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ositos de peluche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D5FC-762B-4CBA-9AF0-CB1FFB53E6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3:06:59Z</dcterms:created>
  <dc:creator>fullerc</dc:creator>
  <dc:description/>
  <dc:language>en-US</dc:language>
  <cp:lastModifiedBy>fullerc</cp:lastModifiedBy>
  <dcterms:modified xsi:type="dcterms:W3CDTF">2006-03-27T12:37:30Z</dcterms:modified>
  <cp:revision>10</cp:revision>
  <dc:subject/>
  <dc:title>Slide 1</dc:title>
</cp:coreProperties>
</file>